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wmf" ContentType="image/x-wmf"/>
  <Override PartName="/ppt/media/image33.wmf" ContentType="image/x-wmf"/>
  <Override PartName="/ppt/media/image13.png" ContentType="image/png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7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00-21D6-4877-A9A6-2B29B5F3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2BE-C86F-43EA-A8FB-5C344EC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F89-4495-4D08-A166-DE345398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E06-7485-456A-8C30-9CE6378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429-2A87-4C46-A1FD-821E83F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80A-0D2B-4F79-B68A-92BE072F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DFF-C916-4F04-BBF8-9E0D0FF2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0A6-DB83-4D27-89A8-4F4C98C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849-F641-4225-AB25-7F7DC77B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C40-26F8-4C74-A630-5EC5FF0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779-92FF-494C-B275-B9B2486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508-55E5-4F72-AA1B-62AEC00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2E1-7ABA-45D2-B7CE-827A955C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2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neBoo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Operator Overloading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Overloaded Operato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on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ence of an operator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can be used to force the order of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ity of operator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ther the operator works left-to-right, or right-to-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number of operands that operator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ossible to create new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on built in types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overloading only works with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a mix of built in and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are never overloaded im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member of the class, it specifies zero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 it specifies on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6811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non-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533760" cy="38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402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member of the class, it specifies on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 it specifies two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733920" cy="178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431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non-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4267080" cy="399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0840" y="3809880"/>
            <a:ext cx="88408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While the user has not chosen to exit the appl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a menu that presents the option to add a new phone book entry, 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existing phone book entries or exit th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If the user chooses to add a new phone book entry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Prompt the user for and store the person’s name</a:t>
            </a:r>
            <a:br>
              <a:rPr sz="1800"/>
            </a:b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Prompt the user for and store the person’s pho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If the user chooses to view the existing phone book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For each phone book entry</a:t>
            </a:r>
            <a:br>
              <a:rPr sz="1800"/>
            </a:b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the entry name and pho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263600"/>
            <a:ext cx="55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verloaded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perato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the stream insertion operator to support a user-defined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the stream extraction operator to support a user-defined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84280" y="1959120"/>
            <a:ext cx="6174000" cy="1466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stream inser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myPhoneNumbe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&lt;&lt;( cout, myPhone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1447920"/>
            <a:ext cx="68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verloaded stream insertion operator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84280" y="1959120"/>
            <a:ext cx="6174000" cy="1466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stream inser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myPhoneNumbe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&gt;&gt;( cin, myPhone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720" y="1295280"/>
            <a:ext cx="70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verloaded stream extraction operator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240600" cy="134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6280" y="1852560"/>
            <a:ext cx="55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rrays to store phone book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5100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rray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and 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22680" y="2071800"/>
            <a:ext cx="619272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960" y="1492200"/>
            <a:ext cx="50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ing phone book entry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newline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6668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2004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038480"/>
            <a:ext cx="24386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 phone number and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to input the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44193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5720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33412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number of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05120" y="51814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66880" y="2162160"/>
            <a:ext cx="6183360" cy="3400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0280" y="1371600"/>
            <a:ext cx="87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each phone book entry using overloaded stream insertion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9304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50532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to display each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365724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72000"/>
            <a:ext cx="23623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to output a 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14600" y="46483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00440" y="1600200"/>
            <a:ext cx="5962680" cy="2185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to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stream-insertion operator is not part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9600" y="11253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676520"/>
            <a:ext cx="25905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ting a phone number by acce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mbers us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1337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743200"/>
            <a:ext cx="24386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a referenc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o enable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97160" y="1600200"/>
            <a:ext cx="443736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9600" y="127800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03640"/>
            <a:ext cx="2666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put numbers and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move non-numeric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971800" y="350496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6576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65760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36576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410080"/>
            <a:ext cx="3200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a referenc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o enable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102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7440" y="1339920"/>
            <a:ext cx="60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856560" cy="42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662200"/>
            <a:ext cx="7974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53341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rrays to store phone numbers and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8672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6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685656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51460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6672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35053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a phone number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580920" y="373356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62520" y="3962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835520"/>
            <a:ext cx="2590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number of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61960" y="4987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6856560" cy="63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274320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8112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371760"/>
            <a:ext cx="3429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displays each name and phone number that has been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90760" y="3676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487692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the phone numbers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2578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5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8380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to output the 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638320" y="1066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75248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output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905120" y="1523520"/>
            <a:ext cx="4572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2286000"/>
            <a:ext cx="3810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ad phone numbers and discard nonnumeric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2666880" y="45684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666880" y="1294920"/>
            <a:ext cx="2286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286000" y="2209320"/>
            <a:ext cx="2666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37920" y="2590920"/>
            <a:ext cx="2514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0560" y="2590920"/>
            <a:ext cx="2361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362320" y="25909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556272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input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25744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0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760" y="1928880"/>
            <a:ext cx="59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0680" y="1905120"/>
            <a:ext cx="76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name and phone numbe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280" y="1852560"/>
            <a:ext cx="55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name and phone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6000" y="1852560"/>
            <a:ext cx="42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phone book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640" y="2004840"/>
            <a:ext cx="354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ing the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llowed by symbol for operator being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“teach” C++ how to use operators with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mimic the functionality of their built in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address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do not need to be overloaded to work with user defin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forms member-wise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the address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33:58Z</dcterms:created>
  <dc:creator>Eric Winokur</dc:creator>
  <dc:description/>
  <dc:language>en-US</dc:language>
  <cp:lastModifiedBy>Pearson Education</cp:lastModifiedBy>
  <dcterms:modified xsi:type="dcterms:W3CDTF">2004-10-11T14:13:29Z</dcterms:modified>
  <cp:revision>109</cp:revision>
  <dc:subject/>
  <dc:title>Tutorial 20 – PhoneBook Application: Introducing Operator Overloading</dc:title>
</cp:coreProperties>
</file>